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gif" ContentType="image/gif"/>
  <Override PartName="/ppt/media/image6.gif" ContentType="image/gif"/>
  <Override PartName="/ppt/media/image7.gif" ContentType="image/gif"/>
  <Override PartName="/ppt/media/image8.png" ContentType="image/png"/>
  <Override PartName="/ppt/media/image11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9257-C288-414D-91EA-0A268DF05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3200-174A-462E-B2B6-DC68A4645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A653-8B6B-457B-87A8-966F35AC0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E13B-7EBE-460A-ADB7-F5879E602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F9D7-1128-4230-9D07-C074F21F2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3CD4-9DE5-4AFF-B7CC-CA7B638F8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0509-982B-4638-A5FD-D869692A1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8F14-7671-46A1-9C52-A21B38242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E3B6-1598-46AC-83AC-4F2A832FE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6538-E635-4494-9E29-22B3255BB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ADCC-23A2-4CD8-9160-C500F275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439A-C396-4ADF-83BD-0432349DA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A2B1C-73DE-48B7-8D46-C38A1F51D5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behavioradvisor.com//assertivediscipline.html" TargetMode="External"/><Relationship Id="rId3" Type="http://schemas.openxmlformats.org/officeDocument/2006/relationships/hyperlink" Target="http://www.angelfire.com/in4/kfluhart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paperbackswap.com/High-Performing-Teacher-Avoiding-Burnout/book/0939007827/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paperbackswap.com/Teaching-Students-Along-Lee-Canter/book/0939007991/" TargetMode="External"/><Relationship Id="rId3" Type="http://schemas.openxmlformats.org/officeDocument/2006/relationships/hyperlink" Target="http://www.paperbackswap.com/Teaching-Students-Along-Lee-Canter/book/0939007991/" TargetMode="External"/><Relationship Id="rId4" Type="http://schemas.openxmlformats.org/officeDocument/2006/relationships/hyperlink" Target="http://www.paperbackswap.com/Teaching-Students-Along-Lee-Canter/book/0939007991/" TargetMode="External"/><Relationship Id="rId5" Type="http://schemas.openxmlformats.org/officeDocument/2006/relationships/hyperlink" Target="http://www.paperbackswap.com/Behavior-Management-Middle-Lee-Canter/book/1572710039/" TargetMode="External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assroom Management Theor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LEE CANTE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124080" y="4987800"/>
            <a:ext cx="2862360" cy="18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assertive teacher is alway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367080" y="3146400"/>
            <a:ext cx="24098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encouraging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562720" y="4191120"/>
            <a:ext cx="2286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model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905120" y="4343400"/>
            <a:ext cx="253368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practicing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762120" y="2362320"/>
            <a:ext cx="2428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reviewing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334120" y="2209680"/>
            <a:ext cx="25048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rewarding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3352680"/>
            <a:ext cx="261000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 Black"/>
              </a:rPr>
              <a:t>describ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to use Lee Canter’s asssertive discip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de on 4 or 5 rules that you want to implement in your class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negative consequences for students who do not ob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itive consequences for students who do ob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meeting with the students to discuss and go over the rules. Go over them throughout the y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inue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he students take the rules home, have parents sign the rules, and ask for their hel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 the rules immediately in your class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sure to let the student know if you are not happy with their behavior but at the same time, let them know what they should be do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“positive repetitions” techn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“proximity prais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rtive teachers will teach children how to behave correctly by modeling and role play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akn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ter’s work of research to create this method has no references or citations li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ter assumes that this method will work with all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are not given any ch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engt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s good cla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expectations are clearly st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s are also clearly st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s build classroom resp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itive, caring and productive learning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ll Canter’s model work in the real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I do believe that this model will work in the real worl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behavioradvisor.com//assertivediscipline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angelfire.com/in4/kflu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teachermatters.com/classroom-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lue Highway"/>
              </a:rPr>
              <a:t>Who is Lee Canter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e Canter is president of Lee Canter and associates in Santa Monica, California. This was founded with his wife, Marlene, in 1976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ter is an author and motivational speaker on how to discipline children in the home and school are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is presently the author of many books based on discip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0287000" y="9524880"/>
            <a:ext cx="29196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imSun"/>
              </a:rPr>
              <a:t>Con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e Canter has been a frequent speaker on shows such as Oprah, Good morning America, and the Today Show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e and Marlene used their company to market their assertive discipline progr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provided professional development training for teachers and materials that could be used for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imSun"/>
              </a:rPr>
              <a:t>Bo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9- Assertive Discipline Positive Behavior Management for Today’s classroo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9- Classroom Management for Accelerating Achiev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8- Parents on your side a Teacher’s guide to Creating positive relationships with par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8- Succeeding with difficult students workbook Grades K-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5- Classroom Management for Academic Succes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3- Record Book Pl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2- Lee Canter’s teaching Responsible Behavior Curriculum Gu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2- Assertive discipline Secondary workbook Grades 6-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2- Parents on your side 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dition a Teacher’s Guide to creating Positive Relationships with Par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2- Assertive Discipline Elementary Workbook grades K-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1- Assertive Discipline 3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dition Positive Behavior Management for Today’s classro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1- Parents on your S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ks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1- Assertive discipline Third e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1- Teacher’s plan book Plus 3 Homework without t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1- Teacher’s Plan book Plus 2 Assertive discip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1- Teacher’s Plan Book plus 5 Motivating today’s lear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1- teacher’s Plan book Plus 7 reading and Literacy A to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8- First class teacher success strategies for new tea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9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he High Performing Teacher Avoiding Burnout and Increasing Your Motivation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ks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9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eaching Students to Get Along Reducing Conflict and Increasing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opperation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in the Classro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9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Behavior Management in the Middle School Classroom a Teacher's Guide to Meeting the Special Challenges of Early Adolesc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83- Lee Canter’s Assertive discipline for pa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ter’s Model of Discip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ter's model of Discipline i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ssertive Discipl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7467480" y="5084640"/>
            <a:ext cx="914400" cy="12099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535040" y="4970520"/>
            <a:ext cx="819360" cy="771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4179960" y="3556080"/>
            <a:ext cx="1218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iondi"/>
              </a:rPr>
              <a:t>Main ideas of assertive Discip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rtive Discipline is a structured Systematic approach designed to assist educators in running an organized classroom environment that is completely controlled by the teac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anters believe that teachers need to expect nothing but compliance. It is imperative. No student should keep you from teaching and this is why teachers should act assertive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lue Highway"/>
              </a:rPr>
              <a:t>Main ideas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rtive teachers give firm, clear and concise directions to students. Students who obey the rules are reinforced whereas those who do not obey the rules will receive negative conseque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rtive teachers do not act in a sarcastic or harsh way to their students. They are demanding yet they are still supportive and respectful of their students. They treat everyone fairl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2T09:08:37Z</dcterms:created>
  <dc:creator>Maria</dc:creator>
  <dc:description/>
  <dc:language>en-US</dc:language>
  <cp:lastModifiedBy>Maria</cp:lastModifiedBy>
  <dcterms:modified xsi:type="dcterms:W3CDTF">2012-06-12T11:36:36Z</dcterms:modified>
  <cp:revision>3</cp:revision>
  <dc:subject/>
  <dc:title>Classroom Management Theorist</dc:title>
</cp:coreProperties>
</file>